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947880" y="744120"/>
            <a:ext cx="4962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2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3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CF95-2A0A-4F92-83FD-B92FFA718F3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9CA8-70A0-4B8A-81F5-F1AC7FBA19D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5F3C-2878-42C0-8415-3FF20BB0A050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8EEE-6F13-48FD-BEFE-657B86486F52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280" y="1035000"/>
            <a:ext cx="7777080" cy="240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Podsumowanie naborów wniosków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w lokalnych grupach działania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w ramach poddziałania 19.2</a:t>
            </a:r>
            <a:br>
              <a:rPr sz="2000"/>
            </a:br>
            <a:br>
              <a:rPr sz="20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ymbol zastępczy tytułu 8"/>
          <p:cNvSpPr/>
          <p:nvPr/>
        </p:nvSpPr>
        <p:spPr>
          <a:xfrm>
            <a:off x="468360" y="4724280"/>
            <a:ext cx="3598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Smardzewice, dnia 7-8 grudnia 2017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ole tekstowe 4"/>
          <p:cNvSpPr/>
          <p:nvPr/>
        </p:nvSpPr>
        <p:spPr>
          <a:xfrm>
            <a:off x="4156200" y="4195800"/>
            <a:ext cx="4370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Projekt współfinansowany ze środków Unii Europejskiej w ramach Pomocy Technicznej Programu Rozwoju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Obraz 2" descr=""/>
          <p:cNvPicPr/>
          <p:nvPr/>
        </p:nvPicPr>
        <p:blipFill>
          <a:blip r:embed="rId1"/>
          <a:stretch/>
        </p:blipFill>
        <p:spPr>
          <a:xfrm>
            <a:off x="4156200" y="3603600"/>
            <a:ext cx="449892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wota z naborów grantowych w L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wota z naborów grantowych ogłoszonych w poszczególnych LG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06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ykorzystanie budż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korzystanie budżetu  w poszczególnych LGD (średnia: 54,08%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10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  <p:sp>
        <p:nvSpPr>
          <p:cNvPr id="211" name="pole tekstowe 2"/>
          <p:cNvSpPr/>
          <p:nvPr/>
        </p:nvSpPr>
        <p:spPr>
          <a:xfrm>
            <a:off x="1116000" y="5861160"/>
            <a:ext cx="464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uwzględnieniem płatności, umów, naborów zakończonych, rozpoczętych, ogłoszonych i protestó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ole tekstowe 2"/>
          <p:cNvSpPr/>
          <p:nvPr/>
        </p:nvSpPr>
        <p:spPr>
          <a:xfrm>
            <a:off x="419040" y="1700280"/>
            <a:ext cx="82216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Lokalne grupy działania z województwa łódzkiego złożyły w UMW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736 wniosków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o weryfikacji zostały przekazane (w tym z nieuzupełnionych naborów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524 wniosk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ozpoczęto weryfikację dla około (zmiany dynamiczne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350 wniosków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odpisano około (zmiany dynamiczne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200 umów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drzucono lub pozostawiono bez rozpatrzenia około (zmiany dynamiczne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40 wniosków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wniosków złożonych i weryfikowalnych w podziale na zakres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18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wota z wniosków złożonych i weryfikowalnych w podziale na zakres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22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ole tekstowe 2"/>
          <p:cNvSpPr/>
          <p:nvPr/>
        </p:nvSpPr>
        <p:spPr>
          <a:xfrm>
            <a:off x="419040" y="1700280"/>
            <a:ext cx="8221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Liczba wniosków złożonych i weryfikowalnych w podziale na rodzaj beneficjent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26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ole tekstowe 2"/>
          <p:cNvSpPr/>
          <p:nvPr/>
        </p:nvSpPr>
        <p:spPr>
          <a:xfrm>
            <a:off x="419040" y="1700280"/>
            <a:ext cx="8221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Kwota z wniosków złożonych i weryfikowalnych w podziale na rodzaj beneficjent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30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wniosków złożonych i weryfikowalnych w podziale na powi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34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wota z wniosków złożonych i weryfikowalnych w podziale na powi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38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wniosków złożonych i weryfikowalnych w podziale na LG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42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Ilość nabor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ole tekstowe 2"/>
          <p:cNvSpPr/>
          <p:nvPr/>
        </p:nvSpPr>
        <p:spPr>
          <a:xfrm>
            <a:off x="419040" y="1700280"/>
            <a:ext cx="8221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okalne grupy działania z województwa łódzkiego ogłosił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naborów na kwotę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3 996 687,86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łotych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ty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naborów grantowych na kwotę: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 751 943,19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łot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Urzędu Marszałkowskiego Województwa Łódzkiego wpłynęły wnioski 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74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naborów na kwotę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4 081 778,52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łotych (z wszystkich wnioskó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ty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naborów grantowych na kwotę: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 827 311,00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łot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wota z wniosków złożonych i weryfikowalnych w podziale na LG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46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9" name=""/>
          <p:cNvGraphicFramePr/>
          <p:nvPr/>
        </p:nvGraphicFramePr>
        <p:xfrm>
          <a:off x="504720" y="1628640"/>
          <a:ext cx="8064720" cy="4210200"/>
        </p:xfrm>
        <a:graphic>
          <a:graphicData uri="http://schemas.openxmlformats.org/drawingml/2006/table">
            <a:tbl>
              <a:tblPr/>
              <a:tblGrid>
                <a:gridCol w="576360"/>
                <a:gridCol w="6915240"/>
                <a:gridCol w="573120"/>
              </a:tblGrid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.20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serwacja i naprawa pojazdów samochodowych, z wyłączeniem motocyk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12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ygotowanie terenu pod budow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.20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iekty noclegowe turystyczne i miejsca krótkotrwałego zakwaterowa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02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yzjerstwo i pozostałe zabiegi kosmetycz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.10.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auracje i inne stałe placówki gastronomicz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.30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lność usługowa związana z zagospodarowaniem terenów ziele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.90.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lność fizjoterapeutycz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.12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lność w zakresie inżynierii i związane z nią doradztwo technicz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62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róbka mechaniczna elementów metalowy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.29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ostała działalność rozrywkowa i rekreacyj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09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ostała działalność usługowa, gdzie indziej niesklasyfikow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71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cja pieczywa; produkcja świeżych wyrobów ciastkarskich i ciast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22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konywanie instalacji wodno-kanalizacyjnych, cieplnych, gazowych i klimatyzacyjny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99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ostałe specjalistyczne roboty budowlane, gdzie indziej niesklasyfikowa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.11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lność w zakresie architektu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61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róbka metali i nakładanie powłok na met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09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cja pozostałych meb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10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cja wyrobów tartaczny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29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cja pozostałych wyrobów z drewna; produkcja wyrobów z korka, słomy i materiałów używanych do wyplata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21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konywanie instalacji elektryczny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.59.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ostałe pozaszkolne formy edukacji, gdzie indziej niesklasyfikowa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.10.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chome placówki gastronomicz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.11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lność związana z produkcją filmów, nagrań wideo i programów telewizyjny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.11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lność agencji reklamowy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.20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lność fotograficz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.32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najem i dzierżawa maszyn i urządzeń budowlany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405040" y="620640"/>
            <a:ext cx="323532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Arial"/>
              </a:rPr>
              <a:t>Dziękujemy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Zakresy nabor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kresy naborów, dla których wnioski zostały złożone w UWM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178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Zakresy naborów grantowy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kresy naborów grantowych, dla których wnioski zostały złożone w UWM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182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Ilość naborów w L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lość naborów ogłoszonych w poszczególnych LG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186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Ilość naborów zwykłych w L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lość naborów zwykłych ogłoszonych w poszczególnych LG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190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Ilość naborów grantowych w L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lość naborów grantowych ogłoszonych w poszczególnych LG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194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wota z ogłoszonych naborów w L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wota z naborów ogłoszonych w poszczególnych LG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198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wota z naborów zwykłych w L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wota z naborów zwykłych ogłoszonych w poszczególnych LG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02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6-08-26T06:50:38Z</cp:lastPrinted>
  <dcterms:modified xsi:type="dcterms:W3CDTF">2017-12-05T06:14:30Z</dcterms:modified>
  <cp:revision>902</cp:revision>
  <dc:subject/>
  <dc:title>Slajd 1</dc:title>
</cp:coreProperties>
</file>